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7582-1CE9-4787-ADFF-EEC95BA7B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C592-FE9A-4881-B0A9-CBAAB6EE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06A67-61C6-4261-91FA-3920FC7F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B6353-C598-4D96-B097-49CFB494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01B5F-E559-4A75-94E0-E0A2B09F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AB370-CCC5-4D93-8DE0-F4DCA5C6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2E5322-BA7B-464E-B8C4-8FBF6070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381F2-21FE-47CE-BAC1-DE4D94FE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37CC8B-C506-4E84-AA93-2203ECD5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DD8DB-AC5B-4AC5-9B83-951D0D6D4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38196-03DF-4E73-9FEF-6D06783BF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4BA9-3854-4A41-88FE-779381815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2456-37EA-4674-A737-18A65BAC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4879-DFBE-436B-90C2-B1C57E8C1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3B70-DC41-470C-A31B-9518B4DB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1E4A-3DBA-475F-8C94-267C8DFB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6256-2B97-4A06-B8A3-4492E6E6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B6BF-5964-4C87-9E8A-68C7E44A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2335-EA9B-4A3B-BD8F-270E28A3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EC3B-51D6-4085-9E78-CA9A8ADD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01BE-A52C-4BE1-9F01-CE757CC3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50FA-BC3F-4C03-BCE5-60FD318C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A6B5-8F87-4683-9070-B8551369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6D76-4692-49C5-A1D1-5BF2232D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D9DC-72E5-498B-971F-3E6A14445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69E7-8187-4B38-8FFF-71F29FD27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1D860-01A5-4EC9-B78A-2F881ED6D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2DF1B-1EAF-4ABA-955B-3E10E78A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0E2E4-1C5D-42BF-92BB-4C9A3768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87B54-6688-4DCC-82E8-5FAD9C79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5B118-5F3D-4D64-947E-89ED3689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0E63-0105-4D6F-BBC0-C3D8264A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A6181-6D5F-444A-A081-3E23A3FF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FFF97-2191-40DC-99EA-2F863FA4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35134-9CB2-45B0-9DD9-AC53DE5F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ADB1F-AE69-469E-AD32-2284DF80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FA692-5A14-48A5-8BF8-FD437027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9022A-A760-4678-B04E-8FB77FC26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2952A-82ED-4FB8-A8EF-74ADD2704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0623E-78A3-479A-A094-A8BBC1DCB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BB723-D0A0-4401-AB62-AE1658A9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41E67-1645-4A79-89B6-A2B39383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B964-0CB7-4CE9-BB65-7B58B2F9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3BB78-16E4-4AD0-BE71-2117FE06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E38C4-1779-4243-97E9-BE89E89C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BECB8-965B-460B-9679-D2C341A7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6FA74-80D1-4BC1-8ABE-7FDD97F7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1BC68-E9E3-459F-A949-1BD18C17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44A0D-2A95-4AD7-BEE9-2442BE9E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DD5B0-BCC9-4AEA-A862-7BEDC499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1589E-6F3B-4B9E-A342-8E5CFCB5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4257D-63A0-4FEE-B414-67B0A4467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A482C-D24B-40BF-A6E7-E78481BA1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047F-547B-49E7-99F6-53542ACD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F9D10-FA14-49CD-A6F5-9A029E97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1F91C-54A4-41F1-889B-27D3E2DD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A3178-D509-456C-8BF7-F1B46AA7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58DB4-3C54-4E38-8922-F61BC2C0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633D6-3197-4914-B0A0-B8B27DD9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BAA10-8511-4BFB-9E25-A3E8EE15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16F0A-0AB1-4424-80F7-B544808A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A060B-A1A9-4BE8-B1B8-28C7A2AE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52F56-790B-4C90-A7C5-A1447618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2E6FE-1767-4D61-B1F3-E924B2B24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41CF-DBBD-4F89-8BFB-E349FEEB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7620F-DACC-444D-991A-31765FBFF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84250-E7EB-4934-B715-7C48B259F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A285D-ED73-4808-8C86-2D9E82CE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A6C6E-E05E-4DFA-B7AC-A5DC7DE9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A7357-B797-4FD4-9C57-F8D77EDA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0D274-F810-4488-BB7C-8DFFFB55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03A73-17DD-4A4B-9297-203D4439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097BB-A5F7-4CD6-AFB2-D3C06C2E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6A4E6-0F7D-4C38-A9B9-905CB9A2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D86B0-D701-44FF-9327-F5F63C10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1DEF-E0F2-4A48-B44C-5A488D53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B9E17-949C-4B9A-BB9F-2840F6CE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701D6-D517-4603-8B2C-8ED55BC89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7C120-3884-42C0-8061-03A551257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2C586-D5C3-41A0-9D8B-C10003AAB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5D31C-4B86-44B2-8C46-3A6882A3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87579-B7EE-42D3-B36F-76B6C928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8D0FB-92A2-4A53-B505-6C33A119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395BA-3AD2-42D8-85DA-039F613C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58F50-93E0-4E56-B379-3EDEE15C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D8D17-8EBC-4417-A234-117000BE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4351-FD06-442F-A7A6-5930EFA8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4E13D-A16E-4D46-97CC-44D0D12E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1FDFA-AE40-4CEB-BD74-39284252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A2221-60DE-443F-8A56-7E43B460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19968-1977-4E25-97CE-44137370E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B3CC5-BD47-4DF5-AB9E-3469886C4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0AD02-6D79-40F6-9449-9DC41DB83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D5AFE-A1A6-43A6-A668-4B673CA3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1AEA3-EAD8-4981-8261-0852380E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55588-A235-4A36-9FFB-1B8DA687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775EA-632E-4215-9169-68CADC1E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5144-414B-4A9D-B348-AFB8E298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3B9F7-0052-47D5-B485-2792B0D1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E96BC-D5B1-4CD6-A6A0-EA55184A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10EC3-39D1-4AF5-8EDE-37F3E7FE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A7FBD-416F-4EBF-90E4-1D1BEDA7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73EAF-75CC-4624-8484-04E241E8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4C434-C659-42F8-9B41-DDDD1299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ADA40-0C49-481E-9D73-C152791C9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7AAB7-A7A3-4910-93DE-E502782BA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A4A37-EE2F-47E9-9FD6-402C5DCA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851A1-6367-4A46-81E6-2DAFA576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AD8D-96BC-4306-A6E0-98B3E146A3E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AE06-4E40-48A8-9DC5-736C1A0DB19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E8CD-19F3-4BB6-BD72-09CB1484B64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8E52-5AE1-4ED4-B83D-ADEE8386FDF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6991-B24B-4811-B5D9-1EE59FFB87E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98A6-E016-4342-A0B3-FB595374987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553C-A466-4145-8261-950CC2DC672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50C9-699A-4669-B44C-82A4E899C62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16CD-E678-4991-A06C-E671D894D3C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Группа 94" descr=""/>
          <p:cNvPicPr/>
          <p:nvPr/>
        </p:nvPicPr>
        <p:blipFill>
          <a:blip r:embed="rId1"/>
          <a:stretch/>
        </p:blipFill>
        <p:spPr>
          <a:xfrm>
            <a:off x="103320" y="36360"/>
            <a:ext cx="8907480" cy="6755040"/>
          </a:xfrm>
          <a:prstGeom prst="rect">
            <a:avLst/>
          </a:prstGeom>
          <a:ln w="0">
            <a:noFill/>
          </a:ln>
        </p:spPr>
      </p:pic>
      <p:sp>
        <p:nvSpPr>
          <p:cNvPr id="400" name="Полилиния 85"/>
          <p:cNvSpPr/>
          <p:nvPr/>
        </p:nvSpPr>
        <p:spPr>
          <a:xfrm rot="1826400">
            <a:off x="817200" y="5249880"/>
            <a:ext cx="554040" cy="68112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Группа 69" descr=""/>
          <p:cNvPicPr/>
          <p:nvPr/>
        </p:nvPicPr>
        <p:blipFill>
          <a:blip r:embed="rId2"/>
          <a:stretch/>
        </p:blipFill>
        <p:spPr>
          <a:xfrm>
            <a:off x="2139840" y="5254560"/>
            <a:ext cx="3992760" cy="1622520"/>
          </a:xfrm>
          <a:prstGeom prst="rect">
            <a:avLst/>
          </a:prstGeom>
          <a:ln w="0">
            <a:noFill/>
          </a:ln>
        </p:spPr>
      </p:pic>
      <p:sp>
        <p:nvSpPr>
          <p:cNvPr id="402" name="TextBox 86"/>
          <p:cNvSpPr/>
          <p:nvPr/>
        </p:nvSpPr>
        <p:spPr>
          <a:xfrm>
            <a:off x="324000" y="44370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a</a:t>
            </a:r>
            <a:r>
              <a:rPr b="1" lang="en-US" sz="1800" spc="-1" strike="noStrike" baseline="30000">
                <a:solidFill>
                  <a:srgbClr val="000066"/>
                </a:solidFill>
                <a:latin typeface="Monotype Corsiv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-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в</a:t>
            </a:r>
            <a:r>
              <a:rPr b="1" lang="en-US" sz="1800" spc="-1" strike="noStrike" baseline="30000">
                <a:solidFill>
                  <a:srgbClr val="000066"/>
                </a:solidFill>
                <a:latin typeface="Monotype Corsiv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=(a-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в</a:t>
            </a: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)(a+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в</a:t>
            </a: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87"/>
          <p:cNvSpPr/>
          <p:nvPr/>
        </p:nvSpPr>
        <p:spPr>
          <a:xfrm>
            <a:off x="250920" y="3716280"/>
            <a:ext cx="20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(</a:t>
            </a: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a-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в)</a:t>
            </a:r>
            <a:r>
              <a:rPr b="1" lang="en-US" sz="1800" spc="-1" strike="noStrike" baseline="30000">
                <a:solidFill>
                  <a:srgbClr val="000066"/>
                </a:solidFill>
                <a:latin typeface="Monotype Corsiv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=a</a:t>
            </a:r>
            <a:r>
              <a:rPr b="1" lang="en-US" sz="1800" spc="-1" strike="noStrike" baseline="30000">
                <a:solidFill>
                  <a:srgbClr val="000066"/>
                </a:solidFill>
                <a:latin typeface="Monotype Corsiv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-2a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в</a:t>
            </a: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+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в</a:t>
            </a:r>
            <a:r>
              <a:rPr b="1" lang="en-US" sz="1800" spc="-1" strike="noStrike" baseline="30000">
                <a:solidFill>
                  <a:srgbClr val="000066"/>
                </a:solidFill>
                <a:latin typeface="Monotype Corsiv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88"/>
          <p:cNvSpPr/>
          <p:nvPr/>
        </p:nvSpPr>
        <p:spPr>
          <a:xfrm>
            <a:off x="250920" y="2987640"/>
            <a:ext cx="201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(</a:t>
            </a: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a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+в)</a:t>
            </a:r>
            <a:r>
              <a:rPr b="1" lang="en-US" sz="1800" spc="-1" strike="noStrike" baseline="30000">
                <a:solidFill>
                  <a:srgbClr val="000066"/>
                </a:solidFill>
                <a:latin typeface="Monotype Corsiv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=a</a:t>
            </a:r>
            <a:r>
              <a:rPr b="1" lang="en-US" sz="1800" spc="-1" strike="noStrike" baseline="30000">
                <a:solidFill>
                  <a:srgbClr val="000066"/>
                </a:solidFill>
                <a:latin typeface="Monotype Corsiva"/>
              </a:rPr>
              <a:t>2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+</a:t>
            </a: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2a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в</a:t>
            </a: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+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в</a:t>
            </a:r>
            <a:r>
              <a:rPr b="1" lang="en-US" sz="1800" spc="-1" strike="noStrike" baseline="30000">
                <a:solidFill>
                  <a:srgbClr val="000066"/>
                </a:solidFill>
                <a:latin typeface="Monotype Corsiv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89"/>
          <p:cNvSpPr/>
          <p:nvPr/>
        </p:nvSpPr>
        <p:spPr>
          <a:xfrm>
            <a:off x="250920" y="2205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(</a:t>
            </a: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a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+в)</a:t>
            </a:r>
            <a:r>
              <a:rPr b="1" lang="ru-RU" sz="1800" spc="-1" strike="noStrike" baseline="30000">
                <a:solidFill>
                  <a:srgbClr val="000066"/>
                </a:solidFill>
                <a:latin typeface="Monotype Corsiva"/>
              </a:rPr>
              <a:t>3</a:t>
            </a: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=a</a:t>
            </a:r>
            <a:r>
              <a:rPr b="1" lang="ru-RU" sz="1800" spc="-1" strike="noStrike" baseline="30000">
                <a:solidFill>
                  <a:srgbClr val="000066"/>
                </a:solidFill>
                <a:latin typeface="Monotype Corsiva"/>
              </a:rPr>
              <a:t>3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+3</a:t>
            </a: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a</a:t>
            </a:r>
            <a:r>
              <a:rPr b="1" lang="ru-RU" sz="1800" spc="-1" strike="noStrike" baseline="30000">
                <a:solidFill>
                  <a:srgbClr val="000066"/>
                </a:solidFill>
                <a:latin typeface="Monotype Corsiva"/>
              </a:rPr>
              <a:t>2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в</a:t>
            </a: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+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3</a:t>
            </a: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a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в</a:t>
            </a:r>
            <a:r>
              <a:rPr b="1" lang="ru-RU" sz="1800" spc="-1" strike="noStrike" baseline="30000">
                <a:solidFill>
                  <a:srgbClr val="000066"/>
                </a:solidFill>
                <a:latin typeface="Monotype Corsiva"/>
              </a:rPr>
              <a:t>2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+в</a:t>
            </a:r>
            <a:r>
              <a:rPr b="1" lang="ru-RU" sz="1800" spc="-1" strike="noStrike" baseline="30000">
                <a:solidFill>
                  <a:srgbClr val="000066"/>
                </a:solidFill>
                <a:latin typeface="Monotype Corsiv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ая соединительная линия 92"/>
          <p:cNvSpPr/>
          <p:nvPr/>
        </p:nvSpPr>
        <p:spPr>
          <a:xfrm flipV="1">
            <a:off x="684360" y="5013360"/>
            <a:ext cx="86328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Скругленный прямоугольник 93"/>
          <p:cNvGrpSpPr/>
          <p:nvPr/>
        </p:nvGrpSpPr>
        <p:grpSpPr>
          <a:xfrm>
            <a:off x="-6480" y="19080"/>
            <a:ext cx="9156960" cy="6802560"/>
            <a:chOff x="-6480" y="19080"/>
            <a:chExt cx="9156960" cy="6802560"/>
          </a:xfrm>
        </p:grpSpPr>
        <p:pic>
          <p:nvPicPr>
            <p:cNvPr id="408" name="Скругленный прямоугольник 93" descr=""/>
            <p:cNvPicPr/>
            <p:nvPr/>
          </p:nvPicPr>
          <p:blipFill>
            <a:blip r:embed="rId3"/>
            <a:stretch/>
          </p:blipFill>
          <p:spPr>
            <a:xfrm>
              <a:off x="-6480" y="19080"/>
              <a:ext cx="9156960" cy="680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642960" y="669960"/>
              <a:ext cx="7858080" cy="550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TextBox 65"/>
          <p:cNvGrpSpPr/>
          <p:nvPr/>
        </p:nvGrpSpPr>
        <p:grpSpPr>
          <a:xfrm>
            <a:off x="749160" y="420840"/>
            <a:ext cx="7791480" cy="2322360"/>
            <a:chOff x="749160" y="420840"/>
            <a:chExt cx="7791480" cy="2322360"/>
          </a:xfrm>
        </p:grpSpPr>
        <p:pic>
          <p:nvPicPr>
            <p:cNvPr id="411" name="TextBox 65" descr=""/>
            <p:cNvPicPr/>
            <p:nvPr/>
          </p:nvPicPr>
          <p:blipFill>
            <a:blip r:embed="rId4"/>
            <a:stretch/>
          </p:blipFill>
          <p:spPr>
            <a:xfrm>
              <a:off x="749160" y="420840"/>
              <a:ext cx="7791480" cy="23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755640" y="428760"/>
              <a:ext cx="777708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нтеграция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даний  ВПР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учебный процесс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TextBox 84"/>
          <p:cNvSpPr/>
          <p:nvPr/>
        </p:nvSpPr>
        <p:spPr>
          <a:xfrm>
            <a:off x="2843280" y="3645000"/>
            <a:ext cx="60498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СОШ № 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Ц «Лидер» г.о. Кин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зикова А.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Группа 79" descr=""/>
          <p:cNvPicPr/>
          <p:nvPr/>
        </p:nvPicPr>
        <p:blipFill>
          <a:blip r:embed="rId1"/>
          <a:stretch/>
        </p:blipFill>
        <p:spPr>
          <a:xfrm>
            <a:off x="103320" y="36360"/>
            <a:ext cx="8907480" cy="6755040"/>
          </a:xfrm>
          <a:prstGeom prst="rect">
            <a:avLst/>
          </a:prstGeom>
          <a:ln w="0">
            <a:noFill/>
          </a:ln>
        </p:spPr>
      </p:pic>
      <p:pic>
        <p:nvPicPr>
          <p:cNvPr id="415" name="TextBox 65" descr=""/>
          <p:cNvPicPr/>
          <p:nvPr/>
        </p:nvPicPr>
        <p:blipFill>
          <a:blip r:embed="rId2"/>
          <a:stretch/>
        </p:blipFill>
        <p:spPr>
          <a:xfrm>
            <a:off x="749160" y="-79200"/>
            <a:ext cx="7791480" cy="1225440"/>
          </a:xfrm>
          <a:prstGeom prst="rect">
            <a:avLst/>
          </a:prstGeom>
          <a:ln w="0">
            <a:noFill/>
          </a:ln>
        </p:spPr>
      </p:pic>
      <p:pic>
        <p:nvPicPr>
          <p:cNvPr id="416" name="TextBox 68" descr=""/>
          <p:cNvPicPr/>
          <p:nvPr/>
        </p:nvPicPr>
        <p:blipFill>
          <a:blip r:embed="rId3"/>
          <a:stretch/>
        </p:blipFill>
        <p:spPr>
          <a:xfrm>
            <a:off x="414360" y="1773360"/>
            <a:ext cx="8467560" cy="4194000"/>
          </a:xfrm>
          <a:prstGeom prst="rect">
            <a:avLst/>
          </a:prstGeom>
          <a:ln w="0">
            <a:noFill/>
          </a:ln>
        </p:spPr>
      </p:pic>
      <p:sp>
        <p:nvSpPr>
          <p:cNvPr id="417" name="Полилиния 67"/>
          <p:cNvSpPr/>
          <p:nvPr/>
        </p:nvSpPr>
        <p:spPr>
          <a:xfrm rot="4803000">
            <a:off x="7738560" y="5491080"/>
            <a:ext cx="954360" cy="1528920"/>
          </a:xfrm>
          <a:prstGeom prst="pie">
            <a:avLst/>
          </a:prstGeom>
          <a:solidFill>
            <a:srgbClr val="002060"/>
          </a:solidFill>
          <a:ln w="25560">
            <a:solidFill>
              <a:srgbClr val="002060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Группа 56" descr=""/>
          <p:cNvPicPr/>
          <p:nvPr/>
        </p:nvPicPr>
        <p:blipFill>
          <a:blip r:embed="rId4"/>
          <a:stretch/>
        </p:blipFill>
        <p:spPr>
          <a:xfrm>
            <a:off x="566640" y="1176480"/>
            <a:ext cx="739476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Группа 79" descr=""/>
          <p:cNvPicPr/>
          <p:nvPr/>
        </p:nvPicPr>
        <p:blipFill>
          <a:blip r:embed="rId2"/>
          <a:stretch/>
        </p:blipFill>
        <p:spPr>
          <a:xfrm>
            <a:off x="103320" y="36360"/>
            <a:ext cx="8907480" cy="6755040"/>
          </a:xfrm>
          <a:prstGeom prst="rect">
            <a:avLst/>
          </a:prstGeom>
          <a:ln w="0">
            <a:noFill/>
          </a:ln>
        </p:spPr>
      </p:pic>
      <p:grpSp>
        <p:nvGrpSpPr>
          <p:cNvPr id="420" name="TextBox 49"/>
          <p:cNvGrpSpPr/>
          <p:nvPr/>
        </p:nvGrpSpPr>
        <p:grpSpPr>
          <a:xfrm>
            <a:off x="365040" y="622440"/>
            <a:ext cx="7791480" cy="931680"/>
            <a:chOff x="365040" y="622440"/>
            <a:chExt cx="7791480" cy="931680"/>
          </a:xfrm>
        </p:grpSpPr>
        <p:pic>
          <p:nvPicPr>
            <p:cNvPr id="421" name="TextBox 49" descr=""/>
            <p:cNvPicPr/>
            <p:nvPr/>
          </p:nvPicPr>
          <p:blipFill>
            <a:blip r:embed="rId3"/>
            <a:stretch/>
          </p:blipFill>
          <p:spPr>
            <a:xfrm>
              <a:off x="365040" y="622440"/>
              <a:ext cx="779148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372960" y="625320"/>
              <a:ext cx="7777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400" spc="-1" strike="noStrike">
                  <a:solidFill>
                    <a:srgbClr val="4e3b30"/>
                  </a:solidFill>
                  <a:latin typeface="Times New Roman"/>
                  <a:ea typeface="Times New Roman"/>
                </a:rPr>
                <a:t>Актуальность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TextBox 84"/>
          <p:cNvSpPr/>
          <p:nvPr/>
        </p:nvSpPr>
        <p:spPr>
          <a:xfrm>
            <a:off x="554040" y="1457280"/>
            <a:ext cx="7921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стресса у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и устранение пробелов в знан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етапредметных ум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функциональной грамо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ая обратная связь для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Группа 79" descr=""/>
          <p:cNvPicPr/>
          <p:nvPr/>
        </p:nvPicPr>
        <p:blipFill>
          <a:blip r:embed="rId1"/>
          <a:stretch/>
        </p:blipFill>
        <p:spPr>
          <a:xfrm>
            <a:off x="103320" y="36360"/>
            <a:ext cx="8907480" cy="6755040"/>
          </a:xfrm>
          <a:prstGeom prst="rect">
            <a:avLst/>
          </a:prstGeom>
          <a:ln w="0">
            <a:noFill/>
          </a:ln>
        </p:spPr>
      </p:pic>
      <p:pic>
        <p:nvPicPr>
          <p:cNvPr id="425" name="TextBox 3" descr=""/>
          <p:cNvPicPr/>
          <p:nvPr/>
        </p:nvPicPr>
        <p:blipFill>
          <a:blip r:embed="rId2"/>
          <a:stretch/>
        </p:blipFill>
        <p:spPr>
          <a:xfrm>
            <a:off x="122400" y="628560"/>
            <a:ext cx="866124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127080" y="127080"/>
            <a:ext cx="8888400" cy="6730920"/>
          </a:xfrm>
          <a:prstGeom prst="rect">
            <a:avLst/>
          </a:prstGeom>
          <a:ln w="9360">
            <a:solidFill>
              <a:srgbClr val="d2a010"/>
            </a:solidFill>
            <a:miter/>
          </a:ln>
        </p:spPr>
      </p:pic>
      <p:grpSp>
        <p:nvGrpSpPr>
          <p:cNvPr id="427" name="TextBox 2"/>
          <p:cNvGrpSpPr/>
          <p:nvPr/>
        </p:nvGrpSpPr>
        <p:grpSpPr>
          <a:xfrm>
            <a:off x="536400" y="420840"/>
            <a:ext cx="8399520" cy="6321240"/>
            <a:chOff x="536400" y="420840"/>
            <a:chExt cx="8399520" cy="6321240"/>
          </a:xfrm>
        </p:grpSpPr>
        <p:pic>
          <p:nvPicPr>
            <p:cNvPr id="428" name="TextBox 2" descr=""/>
            <p:cNvPicPr/>
            <p:nvPr/>
          </p:nvPicPr>
          <p:blipFill>
            <a:blip r:embed="rId2"/>
            <a:stretch/>
          </p:blipFill>
          <p:spPr>
            <a:xfrm>
              <a:off x="536400" y="420840"/>
              <a:ext cx="8399520" cy="63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539640" y="428760"/>
              <a:ext cx="8390160" cy="61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мер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7 класс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стный сче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,5 · 4,7 · 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,05 − 7,2 : 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6,7-2,5)/2,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мин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спомним, как мы умножаем многочлены. Выполните умножение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  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    (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+3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(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 - 2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  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    (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+b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(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+d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  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   (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+5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(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+5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(Обратить внимание на одинаковые скобки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  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   (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 - 4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(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 - 4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(Аналогично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  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   (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-m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(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+m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(Аналогично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127080" y="127080"/>
            <a:ext cx="8888400" cy="6730920"/>
          </a:xfrm>
          <a:prstGeom prst="rect">
            <a:avLst/>
          </a:prstGeom>
          <a:ln w="0">
            <a:noFill/>
          </a:ln>
        </p:spPr>
      </p:pic>
      <p:grpSp>
        <p:nvGrpSpPr>
          <p:cNvPr id="431" name="TextBox 2"/>
          <p:cNvGrpSpPr/>
          <p:nvPr/>
        </p:nvGrpSpPr>
        <p:grpSpPr>
          <a:xfrm>
            <a:off x="706320" y="566640"/>
            <a:ext cx="7791480" cy="6443640"/>
            <a:chOff x="706320" y="566640"/>
            <a:chExt cx="7791480" cy="6443640"/>
          </a:xfrm>
        </p:grpSpPr>
        <p:pic>
          <p:nvPicPr>
            <p:cNvPr id="432" name="TextBox 2" descr=""/>
            <p:cNvPicPr/>
            <p:nvPr/>
          </p:nvPicPr>
          <p:blipFill>
            <a:blip r:embed="rId2"/>
            <a:stretch/>
          </p:blipFill>
          <p:spPr>
            <a:xfrm>
              <a:off x="706320" y="566640"/>
              <a:ext cx="7791480" cy="644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714240" y="571680"/>
              <a:ext cx="7777440" cy="63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ме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ма ФС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блемная ситуац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работа в малых группах или парами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лагаю посчитать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  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   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1</a:t>
              </a:r>
              <a:r>
                <a:rPr b="0" i="1" lang="ru-RU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   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   98</a:t>
              </a:r>
              <a:r>
                <a:rPr b="0" i="1" lang="ru-RU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102 × 9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дача: выполнить эти вычисления быстро, без калькулятора и умножения "столбиком"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127080" y="127080"/>
            <a:ext cx="8888400" cy="6730920"/>
          </a:xfrm>
          <a:prstGeom prst="rect">
            <a:avLst/>
          </a:prstGeom>
          <a:ln w="0">
            <a:noFill/>
          </a:ln>
        </p:spPr>
      </p:pic>
      <p:grpSp>
        <p:nvGrpSpPr>
          <p:cNvPr id="435" name="TextBox 2"/>
          <p:cNvGrpSpPr/>
          <p:nvPr/>
        </p:nvGrpSpPr>
        <p:grpSpPr>
          <a:xfrm>
            <a:off x="493560" y="281160"/>
            <a:ext cx="8229600" cy="6503760"/>
            <a:chOff x="493560" y="281160"/>
            <a:chExt cx="8229600" cy="6503760"/>
          </a:xfrm>
        </p:grpSpPr>
        <p:pic>
          <p:nvPicPr>
            <p:cNvPr id="436" name="TextBox 2" descr=""/>
            <p:cNvPicPr/>
            <p:nvPr/>
          </p:nvPicPr>
          <p:blipFill>
            <a:blip r:embed="rId2"/>
            <a:stretch/>
          </p:blipFill>
          <p:spPr>
            <a:xfrm>
              <a:off x="493560" y="281160"/>
              <a:ext cx="8229600" cy="650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500040" y="285840"/>
              <a:ext cx="8215200" cy="60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ифференциация задани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дание 1 (Базовый уровень ВПР)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скройте скобки, используя формулы сокращённого умножения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      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  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      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   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k – 2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      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    (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x-2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(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x+2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дание 2 (Чуть сложнее, ВПР)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простите выражение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      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        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дание 3 (Углубленный уровень ВПР)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8" name="Рисунок 3" descr=" дробь: числитель: 6,7 в квадрате плюс 2 умножить на 6,7 умножить на 5,9 плюс 5,9 в квадрате , знаменатель: 7,3 в квадрате минус 5,3 в квадрате конец дроби . "/>
          <p:cNvPicPr/>
          <p:nvPr/>
        </p:nvPicPr>
        <p:blipFill>
          <a:blip r:embed="rId3"/>
          <a:stretch/>
        </p:blipFill>
        <p:spPr>
          <a:xfrm>
            <a:off x="1071720" y="5643720"/>
            <a:ext cx="2571480" cy="714240"/>
          </a:xfrm>
          <a:prstGeom prst="rect">
            <a:avLst/>
          </a:prstGeom>
          <a:ln w="0">
            <a:noFill/>
          </a:ln>
        </p:spPr>
      </p:pic>
      <p:pic>
        <p:nvPicPr>
          <p:cNvPr id="439" name="Рисунок 4" descr=" левая круг­лая скоб­ка 4 минус y пра­вая круг­лая скоб­ка в квад­ра­те минус y левая круг­лая скоб­ка y плюс 1 пра­вая круг­лая скоб­ка "/>
          <p:cNvPicPr/>
          <p:nvPr/>
        </p:nvPicPr>
        <p:blipFill>
          <a:blip r:embed="rId4"/>
          <a:stretch/>
        </p:blipFill>
        <p:spPr>
          <a:xfrm>
            <a:off x="1357200" y="4071960"/>
            <a:ext cx="2071800" cy="357120"/>
          </a:xfrm>
          <a:prstGeom prst="rect">
            <a:avLst/>
          </a:prstGeom>
          <a:ln w="0">
            <a:noFill/>
          </a:ln>
        </p:spPr>
      </p:pic>
      <p:pic>
        <p:nvPicPr>
          <p:cNvPr id="440" name="Рисунок 5" descr=" левая круг­лая скоб­ка y минус 4 пра­вая круг­лая скоб­ка в квад­ра­те минус левая круг­лая скоб­ка 6 плюс y пра­вая круг­лая скоб­ка левая круг­лая скоб­ка y минус 6 пра­вая круг­лая скоб­ка "/>
          <p:cNvPicPr/>
          <p:nvPr/>
        </p:nvPicPr>
        <p:blipFill>
          <a:blip r:embed="rId5"/>
          <a:stretch/>
        </p:blipFill>
        <p:spPr>
          <a:xfrm>
            <a:off x="1357200" y="4357800"/>
            <a:ext cx="2857680" cy="357120"/>
          </a:xfrm>
          <a:prstGeom prst="rect">
            <a:avLst/>
          </a:prstGeom>
          <a:ln w="0">
            <a:noFill/>
          </a:ln>
        </p:spPr>
      </p:pic>
      <p:pic>
        <p:nvPicPr>
          <p:cNvPr id="441" name="Рисунок 6" descr=" левая круг­лая скоб­ка a минус 3 пра­вая круг­лая скоб­ка в квад­ра­те минус 6 левая круг­лая скоб­ка 2 минус a пра­вая круг­лая скоб­ка "/>
          <p:cNvPicPr/>
          <p:nvPr/>
        </p:nvPicPr>
        <p:blipFill>
          <a:blip r:embed="rId6"/>
          <a:srcRect l="0" t="0" r="56087" b="9923"/>
          <a:stretch/>
        </p:blipFill>
        <p:spPr>
          <a:xfrm>
            <a:off x="1500120" y="2000160"/>
            <a:ext cx="928800" cy="28584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1" descr=""/>
          <p:cNvPicPr/>
          <p:nvPr/>
        </p:nvPicPr>
        <p:blipFill>
          <a:blip r:embed="rId7"/>
          <a:stretch/>
        </p:blipFill>
        <p:spPr>
          <a:xfrm>
            <a:off x="0" y="457200"/>
            <a:ext cx="571680" cy="19044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3" descr=""/>
          <p:cNvPicPr/>
          <p:nvPr/>
        </p:nvPicPr>
        <p:blipFill>
          <a:blip r:embed="rId8"/>
          <a:stretch/>
        </p:blipFill>
        <p:spPr>
          <a:xfrm>
            <a:off x="0" y="457200"/>
            <a:ext cx="57168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2" descr=""/>
          <p:cNvPicPr/>
          <p:nvPr/>
        </p:nvPicPr>
        <p:blipFill>
          <a:blip r:embed="rId1"/>
          <a:stretch/>
        </p:blipFill>
        <p:spPr>
          <a:xfrm>
            <a:off x="127080" y="127080"/>
            <a:ext cx="8888400" cy="6730920"/>
          </a:xfrm>
          <a:prstGeom prst="rect">
            <a:avLst/>
          </a:prstGeom>
          <a:ln w="0">
            <a:noFill/>
          </a:ln>
        </p:spPr>
      </p:pic>
      <p:grpSp>
        <p:nvGrpSpPr>
          <p:cNvPr id="447" name="TextBox 2"/>
          <p:cNvGrpSpPr/>
          <p:nvPr/>
        </p:nvGrpSpPr>
        <p:grpSpPr>
          <a:xfrm>
            <a:off x="566640" y="420840"/>
            <a:ext cx="8401320" cy="5956200"/>
            <a:chOff x="566640" y="420840"/>
            <a:chExt cx="8401320" cy="5956200"/>
          </a:xfrm>
        </p:grpSpPr>
        <p:pic>
          <p:nvPicPr>
            <p:cNvPr id="448" name="TextBox 2" descr=""/>
            <p:cNvPicPr/>
            <p:nvPr/>
          </p:nvPicPr>
          <p:blipFill>
            <a:blip r:embed="rId2"/>
            <a:stretch/>
          </p:blipFill>
          <p:spPr>
            <a:xfrm>
              <a:off x="566640" y="420840"/>
              <a:ext cx="8401320" cy="595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571680" y="428760"/>
              <a:ext cx="8389800" cy="58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мер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Мини-ВПР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азовый уровен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 Раскройте скобки и упростите: (</a:t>
              </a:r>
              <a:r>
                <a:rPr b="0" i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5)</a:t>
              </a:r>
              <a:r>
                <a:rPr b="0" lang="ru-RU" sz="16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 Упростите выражение: (a − 3)</a:t>
              </a:r>
              <a:r>
                <a:rPr b="0" lang="ru-RU" sz="16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− (a</a:t>
              </a:r>
              <a:r>
                <a:rPr b="0" lang="ru-RU" sz="16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− 6a + 9).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. Разложите на множители: 49</a:t>
              </a:r>
              <a:r>
                <a:rPr b="0" i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ru-RU" sz="16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− 36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вышенный уровен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 Упростите выражение: (</a:t>
              </a:r>
              <a:r>
                <a:rPr b="0" i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 + 2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ru-RU" sz="16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− (</a:t>
              </a:r>
              <a:r>
                <a:rPr b="0" i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 − 2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ru-RU" sz="16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 Разложите на множители многочлен: </a:t>
              </a:r>
              <a:r>
                <a:rPr b="0" i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ru-RU" sz="16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− 16.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. Решите уравнение: (</a:t>
              </a:r>
              <a:r>
                <a:rPr b="0" i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 + 3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ru-RU" sz="16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− (</a:t>
              </a:r>
              <a:r>
                <a:rPr b="0" i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 − 3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ru-RU" sz="16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3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глубленный уровен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Найдите все целые k такие, что (</a:t>
              </a:r>
              <a:r>
                <a:rPr b="0" i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 +1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ru-RU" sz="16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− k</a:t>
              </a:r>
              <a:r>
                <a:rPr b="0" lang="ru-RU" sz="16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делится на 5.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 Два числа x и y удовлетворяют условиям </a:t>
              </a:r>
              <a:r>
                <a:rPr b="0" i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 + y = 10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</a:t>
              </a:r>
              <a:r>
                <a:rPr b="0" i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ru-RU" sz="16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</a:t>
              </a:r>
              <a:r>
                <a:rPr b="0" i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ru-RU" sz="16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58. Найдите значение </a:t>
              </a:r>
              <a:r>
                <a:rPr b="0" i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y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 − y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ru-RU" sz="16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0" name="Рисунок 3" descr=" дробь: чис­ли­тель: 12,9 в квад­ра­те минус 2 умно­жить на 12,9 умно­жить на 1,5 плюс 1,5 в квад­ра­те , зна­ме­на­тель: 7,2 в квад­ра­те минус 4,2 в квад­ра­те конец дроби . "/>
          <p:cNvPicPr/>
          <p:nvPr/>
        </p:nvPicPr>
        <p:blipFill>
          <a:blip r:embed="rId3"/>
          <a:stretch/>
        </p:blipFill>
        <p:spPr>
          <a:xfrm>
            <a:off x="928800" y="5143680"/>
            <a:ext cx="228600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4T06:44:47Z</dcterms:created>
  <dc:creator>Ольга</dc:creator>
  <dc:description/>
  <dc:language>en-US</dc:language>
  <cp:lastModifiedBy>puzikova_as</cp:lastModifiedBy>
  <dcterms:modified xsi:type="dcterms:W3CDTF">2025-12-10T09:45:07Z</dcterms:modified>
  <cp:revision>72</cp:revision>
  <dc:subject/>
  <dc:title>Слайд 1</dc:title>
</cp:coreProperties>
</file>